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21.png" ContentType="image/png"/>
  <Override PartName="/ppt/media/image20.wmf" ContentType="image/x-wmf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DBB-933C-42AE-8CE5-4C118CEE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5AA-7696-4293-8F19-418DD483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2A859-1A36-4D67-9D89-1ECCADAA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8EE93-294D-4804-A496-CC111F5AD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2E88CF-64DB-456E-9756-BC3C3DAA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26BEDA-62AC-4EBD-B354-5137B6C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109E19-8A07-4A5E-8D21-3CE2F25F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0DF47-55E2-4F5E-AC69-D7B90064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36473-7EA8-4D6D-9ABA-3E3C663F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9F7B8-2002-4FB2-B119-21847C4B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0D5BE-AC87-404C-8E15-A5A2DEA0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0BC-97A1-4A5A-85C3-99A17C04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C37-48EF-491F-8284-58AE03B5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E9C7-6442-4C84-A58C-49977D6A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0818-9C26-4C0B-8BAA-AF839647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BB50-1C36-426A-A9D3-A89B9BD2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0B79-9733-43C0-8599-012737EB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437-803E-48D3-A8DF-13A9FA3E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3632B-491F-4EB2-9DA3-8883DB71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15A-E8F2-4D6C-99D9-7AAB300C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847-7B2E-46AE-B54F-B42A561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04A00-2181-498B-948B-09149E2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AA64-FF50-4147-919F-F242AF9E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584C-EF44-4E43-BC35-348DCBF4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19B5-7275-4A53-8423-6CD1E907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B65C-72E8-40E4-B0A4-D7C8395B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37A6E-2812-4AC5-B44D-9B8FA230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F3A45-DB2D-49FA-89CD-3CD1D46F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DF814-A6FB-473B-AB8D-3D30A0D1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4A017-3B5D-4429-A36F-741C9481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FE1C-F2C3-43D7-8CAF-5463AA4B7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D84-6CF5-4FAA-8A4E-22654606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09B30-D611-40C4-AE38-451E9FCA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54D95-AE40-44BC-9C11-083B3F2A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B32FB-667E-4992-9DAA-0A4E3D23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7FD3-1287-4301-80E7-CBFEBCFA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FF9C0-74C8-464F-86AF-8B2A1595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D911-4210-438C-B6BC-06ECB805D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C2414-E59E-4E15-8900-E49FB964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769A4-E31A-4135-A432-D6CD4053E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D350-0C37-4A20-8F7E-52184658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17BFE-E7D4-4663-8092-39CCA689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3E8-FEB4-41A5-9E00-FDE9F1AA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0688-A028-4C88-9400-72DF8EE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2AF66-D965-4720-BF6C-FC1CAE6C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4EEFF-ECC1-4E7D-BA21-EA84EE4E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B15C5-4945-4AF1-86A3-7D121A7A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8516F-2787-4B75-B2C5-EA1A162C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9A48-770B-40B6-A88E-F67AE6D4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766DF-6CFA-4DEF-9DA3-BA4DF113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20BC-D39A-4B51-AE4E-32D1A03B8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6E2BE-F396-4C56-A052-2BE60489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E57D2-D8E0-40AD-BE9B-D073E6AF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F36A-8863-4F72-AC50-F7C369A0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527BB-FEE1-41FF-B437-9B33134A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02BC1-AD97-4CFE-B60D-FFF50BE0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073E8-01E5-4DB7-AFD2-4E4BFF68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BABE5-EB26-4BD0-8474-771C8F5E2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FD403-6434-4BE9-BB98-1274BE9B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17492-0056-42E4-AE5B-CCEFEFA9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4245C-711F-4C1D-AD68-35D435E9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AA935-1843-4AFB-B081-D2E976A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2130B-134B-4EA9-A9DE-F85DF043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C8181-EAB6-4D6A-84F3-C52900856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19A3-8538-44F2-ADD8-1E41D0A9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F2B67-7C5F-42B7-9797-F629388B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02F36-ADBB-440F-AF3A-8FEFECFBA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8ADBA-F870-4F27-8499-4E7EA480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DD31-1875-479F-AC9B-F3A688E3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A598A-D1E1-47D7-AEF7-CAE267BB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D6F0-57A8-44A5-BB9F-E09D6F9B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3EC2E-83E1-45FF-A44B-6FF6C5AC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68F40D-B18E-4766-9A94-E66EAF0A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C7DB0-D039-467A-AB2D-BC71B75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54443-7D42-43FF-BC5C-C9B7E9A0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3EF-8C58-4133-B901-1E2FD796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91EDA-FE3F-4FB0-9AC7-8A46B66D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B9918-5874-4D41-98F7-E0EC63EA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D1B4-F867-464A-AFA6-A84DA05E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5FC78-0281-48C3-8D2A-F005DCF31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486BF-79C6-4562-8358-00462FCBE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5CDF-448E-4614-8827-EA4DF9BA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F217B-A9E1-4404-95CA-1A1D35DA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832AF-1FCA-4964-952F-28B14E9D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95F36-1E47-4ED3-A435-BE030A0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D0A26-A9E9-4073-976D-9AC517C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05DB-768A-45F1-B3B2-87B06BA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DB30E-80F1-4187-B1CC-36DFD3EB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BCEE8-857A-4E4E-8668-F73B9F2A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7A2E4-D3CC-4D3D-B3FD-80F8146F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DDDB8-FAC9-4470-BBF2-EE8B9D87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E6000-86A6-4ED9-94E7-AC68501C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E20644-AC79-4F28-847E-8F645B66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93174-1038-463F-AAC4-1F3871C3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3D8B6-B258-4CE4-8624-79F16AAC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3E3C4-BA31-4C23-98B9-B87EE730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7EB46-E981-40A8-9FF8-93432EA9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CEC-AE53-42DF-ACFB-7A6CEA8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9C1A1-1FA3-4FF8-9F9A-38406C4F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D8502-42AF-4D21-9850-E22D1E33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A40C3-A172-4598-B877-CAC9061C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1C59-E8C0-41D5-8D2C-96DFC69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3F4F3-A50D-4526-85F8-51659240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3F20E-8253-43FF-8422-7B78880CC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9CA6A-BDA1-488A-9654-DBED6B3C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0514C-5636-48CC-B824-83904039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3BE94-F861-4CB8-9743-4A2A5EA6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91089-5026-4F36-B96D-43D4A0DA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2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onbee"/>
          <p:cNvPicPr/>
          <p:nvPr/>
        </p:nvPicPr>
        <p:blipFill>
          <a:blip r:embed="rId2"/>
          <a:stretch/>
        </p:blipFill>
        <p:spPr>
          <a:xfrm>
            <a:off x="0" y="4952880"/>
            <a:ext cx="1531800" cy="1905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onbee1"/>
          <p:cNvPicPr/>
          <p:nvPr/>
        </p:nvPicPr>
        <p:blipFill>
          <a:blip r:embed="rId3"/>
          <a:stretch/>
        </p:blipFill>
        <p:spPr>
          <a:xfrm>
            <a:off x="0" y="0"/>
            <a:ext cx="1120680" cy="5006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河山图标"/>
          <p:cNvPicPr/>
          <p:nvPr/>
        </p:nvPicPr>
        <p:blipFill>
          <a:blip r:embed="rId4"/>
          <a:stretch/>
        </p:blipFill>
        <p:spPr>
          <a:xfrm>
            <a:off x="6134040" y="640080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1"/>
          <p:cNvPicPr/>
          <p:nvPr/>
        </p:nvPicPr>
        <p:blipFill>
          <a:blip r:embed="rId5"/>
          <a:stretch/>
        </p:blipFill>
        <p:spPr>
          <a:xfrm>
            <a:off x="6019920" y="6248520"/>
            <a:ext cx="3124080" cy="53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2316-B8CC-48DE-94A7-7D3AE2FCF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bear_business_spacer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cuddly_cow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cd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2035080" cy="6858000"/>
            <a:chOff x="0" y="0"/>
            <a:chExt cx="2035080" cy="6858000"/>
          </a:xfrm>
        </p:grpSpPr>
        <p:pic>
          <p:nvPicPr>
            <p:cNvPr id="48" name="Picture 3" descr="mouse_in_motion_left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035080" cy="48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" descr="mouse_in_motion_leftback"/>
            <p:cNvPicPr/>
            <p:nvPr/>
          </p:nvPicPr>
          <p:blipFill>
            <a:blip r:embed="rId3"/>
            <a:stretch/>
          </p:blipFill>
          <p:spPr>
            <a:xfrm>
              <a:off x="0" y="2057400"/>
              <a:ext cx="2035080" cy="480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5" descr="河山图标"/>
          <p:cNvPicPr/>
          <p:nvPr/>
        </p:nvPicPr>
        <p:blipFill>
          <a:blip r:embed="rId4"/>
          <a:stretch/>
        </p:blipFill>
        <p:spPr>
          <a:xfrm>
            <a:off x="6134040" y="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1"/>
          <p:cNvPicPr/>
          <p:nvPr/>
        </p:nvPicPr>
        <p:blipFill>
          <a:blip r:embed="rId5"/>
          <a:stretch/>
        </p:blipFill>
        <p:spPr>
          <a:xfrm>
            <a:off x="6019920" y="0"/>
            <a:ext cx="3124080" cy="698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E0B3-45CB-4014-AD99-3908117B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1" descr="bear_business_spacer"/>
          <p:cNvPicPr/>
          <p:nvPr/>
        </p:nvPicPr>
        <p:blipFill>
          <a:blip r:embed="rId6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cuddly_cow_spacer"/>
          <p:cNvPicPr/>
          <p:nvPr/>
        </p:nvPicPr>
        <p:blipFill>
          <a:blip r:embed="rId7"/>
          <a:stretch/>
        </p:blipFill>
        <p:spPr>
          <a:xfrm>
            <a:off x="4565520" y="3422520"/>
            <a:ext cx="11160" cy="11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4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河山图标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proud_monkey_top"/>
          <p:cNvPicPr/>
          <p:nvPr/>
        </p:nvPicPr>
        <p:blipFill>
          <a:blip r:embed="rId3"/>
          <a:stretch/>
        </p:blipFill>
        <p:spPr>
          <a:xfrm>
            <a:off x="0" y="0"/>
            <a:ext cx="5418000" cy="1523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1"/>
          <p:cNvPicPr/>
          <p:nvPr/>
        </p:nvPicPr>
        <p:blipFill>
          <a:blip r:embed="rId4"/>
          <a:stretch/>
        </p:blipFill>
        <p:spPr>
          <a:xfrm>
            <a:off x="0" y="6172200"/>
            <a:ext cx="3962520" cy="685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roud_monkey_bottom"/>
          <p:cNvPicPr/>
          <p:nvPr/>
        </p:nvPicPr>
        <p:blipFill>
          <a:blip r:embed="rId5"/>
          <a:stretch/>
        </p:blipFill>
        <p:spPr>
          <a:xfrm>
            <a:off x="3886200" y="6172200"/>
            <a:ext cx="5257800" cy="685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0628-4D04-4178-9979-A1610CBCA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1"/>
          <p:cNvPicPr/>
          <p:nvPr/>
        </p:nvPicPr>
        <p:blipFill>
          <a:blip r:embed="rId6"/>
          <a:stretch/>
        </p:blipFill>
        <p:spPr>
          <a:xfrm>
            <a:off x="5334120" y="0"/>
            <a:ext cx="3809880" cy="153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c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河山图标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1"/>
          <p:cNvPicPr/>
          <p:nvPr/>
        </p:nvPicPr>
        <p:blipFill>
          <a:blip r:embed="rId3"/>
          <a:stretch/>
        </p:blipFill>
        <p:spPr>
          <a:xfrm>
            <a:off x="0" y="6222960"/>
            <a:ext cx="3352680" cy="635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ssquirrel2"/>
          <p:cNvPicPr/>
          <p:nvPr/>
        </p:nvPicPr>
        <p:blipFill>
          <a:blip r:embed="rId4"/>
          <a:stretch/>
        </p:blipFill>
        <p:spPr>
          <a:xfrm>
            <a:off x="0" y="0"/>
            <a:ext cx="9367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ssquirrel1"/>
          <p:cNvPicPr/>
          <p:nvPr/>
        </p:nvPicPr>
        <p:blipFill>
          <a:blip r:embed="rId5"/>
          <a:stretch/>
        </p:blipFill>
        <p:spPr>
          <a:xfrm>
            <a:off x="0" y="4686480"/>
            <a:ext cx="1978200" cy="21715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E2D9-51D8-4958-B588-87B228D1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河山图标"/>
          <p:cNvPicPr/>
          <p:nvPr/>
        </p:nvPicPr>
        <p:blipFill>
          <a:blip r:embed="rId2"/>
          <a:stretch/>
        </p:blipFill>
        <p:spPr>
          <a:xfrm>
            <a:off x="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strike"/>
          <p:cNvPicPr/>
          <p:nvPr/>
        </p:nvPicPr>
        <p:blipFill>
          <a:blip r:embed="rId3"/>
          <a:stretch/>
        </p:blipFill>
        <p:spPr>
          <a:xfrm>
            <a:off x="0" y="3429000"/>
            <a:ext cx="1714680" cy="3429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strike"/>
          <p:cNvPicPr/>
          <p:nvPr/>
        </p:nvPicPr>
        <p:blipFill>
          <a:blip r:embed="rId4"/>
          <a:stretch/>
        </p:blipFill>
        <p:spPr>
          <a:xfrm>
            <a:off x="0" y="0"/>
            <a:ext cx="1714680" cy="34783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1"/>
          <p:cNvPicPr/>
          <p:nvPr/>
        </p:nvPicPr>
        <p:blipFill>
          <a:blip r:embed="rId5"/>
          <a:stretch/>
        </p:blipFill>
        <p:spPr>
          <a:xfrm>
            <a:off x="160020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7556-A6C4-42BC-B7E3-357191C75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81B5-BA69-46F7-8D48-F3AC88F8C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273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419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433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447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461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475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489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503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4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505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19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20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21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F164-3AE2-4FAA-B00A-E23346F19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B361-4240-4F1E-A04E-E184EC8F7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602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616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762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25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2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9D7B-9CB6-4F5A-8775-72D375D57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1692360" y="141264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我爱我家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5076720" y="616572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播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让爱住我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6"/>
          <p:cNvSpPr/>
          <p:nvPr/>
        </p:nvSpPr>
        <p:spPr>
          <a:xfrm>
            <a:off x="2050920" y="0"/>
            <a:ext cx="266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第二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 rot="10800000">
            <a:off x="0" y="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1258920" y="333000"/>
            <a:ext cx="8569440" cy="72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美满的家庭离不开父母的爱心与奉献，而这份爱心与奉献，正体现了父母对家庭的责任。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59724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请两名同学朗读故事两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332000" y="1168560"/>
            <a:ext cx="86724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你如何看待故事中的母亲和父亲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Times New Roman"/>
              </a:rPr>
              <a:t>母亲和父亲在表达爱时有何不同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512720" y="189000"/>
            <a:ext cx="763128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父母给了子女无悔的奉献、无私的爱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50920" y="259920"/>
            <a:ext cx="6984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01680" y="-4758840"/>
            <a:ext cx="95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63040" cy="50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我们为什么要爱我们的父母？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P8-P9)</a:t>
            </a:r>
            <a:endParaRPr b="0" lang="en-US" sz="9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2320" cy="25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感谢与寄言</a:t>
            </a:r>
            <a:endParaRPr b="0" lang="en-US" sz="9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-181440" y="1988640"/>
            <a:ext cx="916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Arial"/>
              </a:rPr>
              <a:t>（在感谢父母抚育、理解父母心情的基础上，把你最想对父母说的话写出来）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01680" y="-4793760"/>
            <a:ext cx="950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755280" y="880560"/>
            <a:ext cx="76690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二、爱的无悔奉献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三、爱的心声： 感受到了家庭的温暖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9" name="Text Box 4"/>
          <p:cNvSpPr/>
          <p:nvPr/>
        </p:nvSpPr>
        <p:spPr>
          <a:xfrm>
            <a:off x="4356000" y="602136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播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亲相爱一家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群星 - 相亲相爱的一家人.mp3" descr=""/>
          <p:cNvPicPr/>
          <p:nvPr/>
        </p:nvPicPr>
        <p:blipFill>
          <a:blip r:embed="rId1"/>
          <a:stretch/>
        </p:blipFill>
        <p:spPr>
          <a:xfrm>
            <a:off x="7667640" y="4941720"/>
            <a:ext cx="1673280" cy="16732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85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85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276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板书设计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一、爱的回忆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家的温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二、爱的无悔奉献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三、爱的心声：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感受家庭的温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1" name="ShockwaveFlash1"/>
          <p:cNvGraphicFramePr/>
          <p:nvPr/>
        </p:nvGraphicFramePr>
        <p:xfrm>
          <a:off x="-324000" y="-892080"/>
          <a:ext cx="10441080" cy="81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24000" y="-892080"/>
                    <a:ext cx="10441080" cy="81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55280" y="-488124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2411280" y="1052280"/>
            <a:ext cx="6553440" cy="64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这个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flash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让你感受到了什么</a:t>
            </a: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287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76000" y="260280"/>
            <a:ext cx="7921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家庭不单是身体的住所，也是心灵的寄托处。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-5346360"/>
            <a:ext cx="217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932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每当父母说起小时侯的我＿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10920" y="-4844880"/>
            <a:ext cx="745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-396720" y="1989000"/>
            <a:ext cx="1008216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一、爱的回忆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家的温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7" dur="2000" fill="hold"/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3" dur="3000" fill="hold"/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2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29" dur="3000" fill="hold"/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54720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是不是每个人都拥有幸福的家庭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042920" y="378000"/>
            <a:ext cx="77724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你认为秀怡有家吗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秀怡的爸妈爱她吗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8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755280" y="-473688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10920" y="0"/>
            <a:ext cx="92170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父母对子女具有抚养的义务：爱它是一种责任，是道德的要求；也是法律的规定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-526320"/>
            <a:ext cx="194148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920" y="836640"/>
            <a:ext cx="7920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9600" spc="-1" strike="noStrike">
                <a:solidFill>
                  <a:srgbClr val="000000"/>
                </a:solidFill>
                <a:latin typeface="Times New Roman"/>
              </a:rPr>
              <a:t>说说自己父母对家庭的所作出的贡献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2T11:56:16Z</dcterms:created>
  <dc:creator>微软用户</dc:creator>
  <dc:description/>
  <dc:language>en-US</dc:language>
  <cp:lastModifiedBy>LENOVO</cp:lastModifiedBy>
  <dcterms:modified xsi:type="dcterms:W3CDTF">2016-12-23T09:17:17Z</dcterms:modified>
  <cp:revision>13</cp:revision>
  <dc:subject/>
  <dc:title>我爱我家</dc:title>
</cp:coreProperties>
</file>